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67C-2ABE-4E75-A2F0-BF23C181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779-5C18-461E-881E-A279B8C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F67-20D7-4547-A711-A76137AB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209-E34E-4B3B-BAC7-DC9BB45F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A31D-7BE0-43C8-ADFB-8D966D29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D439-ED6E-44EC-929D-7B881090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046C-CE6E-4E56-AE2A-45FB44A9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F4B8-19EE-462F-9A05-18D94067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32FF-B782-4EC7-8732-DCED8E28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16F7-3C2C-4380-93D0-1B79D7C2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D16D-8D58-4DFA-A92B-F2805208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587-26F9-4A2C-A872-F4309544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F0A9-DCEA-4D09-AAFB-46FE43AB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5C23-E1B5-440F-B7E4-263FFDDD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3378-62EB-4184-89CE-52C6BDDB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BFF9-CD1D-4CA9-AEE7-141C2A1B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23F6-F5E3-428D-BA37-3D1FF2D5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2DD-C690-44B9-ADED-1FADC90B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37D-DAD6-4C69-96B9-09D3462F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FB5-4DEF-453C-8690-D8E97309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78F-03F7-41F4-A7B7-CBC512AA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7CA-2C31-460E-A371-C351905B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6E2-9CC8-470C-B395-BCB16C91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C22-EAEF-48F8-8A2A-E4EA24C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2E2-4D8B-4173-925B-F0F32803B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10BA-D152-43FB-8DC8-BC107B266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wx.prenhall.com/bookbind/pubbooks/hillchem3/medialib/media_portfolio/text_images/CH02/FG02_09.JPG&amp;imgrefurl=http://cwx.prenhall.com/bookbind/pubbooks/hillchem3/medialib/media_portfolio/02.html&amp;h=600&amp;w=580&amp;sz=80&amp;hl=en&amp;start=1&amp;tbnid=N44Lp3ViO41xxM:&amp;tbnh=135&amp;tbnw=131&amp;prev=/images%3Fq%3Datoms%2Bmolecules%2Bformula%2Bunits%26gbv%3D2%26svnum%3D10%26hl%3Den%26safe%3Dof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hemical Quantities - </a:t>
            </a:r>
            <a:br>
              <a:rPr sz="4100"/>
            </a:b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Moles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411480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4479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rcent by Mass (Percent Composition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centage of each element in the mass of a compound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each element in sodium phosphat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mass of Mg in 97.4g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n Empirical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est whole number ratio of elements in a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% composition and assume 100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by MM of each element to get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all by lowest number of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be Multi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empirical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 compound is determined to be 36.4% nitrogen and 63.16% oxygen, what is the empirical formu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empirical formula of a compound that is 72.4% Fe &amp; 27.6% 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 Molecular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ultiple of empirical formula that accurately shows number of each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mass of empirical formula (EF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MM of the compound by the EF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y empirical formula by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molecular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 compound has a molar mass of 110.0 g/mol.  What is the molecular formula if it is 65.45% C, 5.45% H, and 29.09% 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molecular formula of a compound that has an empirical formula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a gfm = 146 g/mo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ES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e Choice  and.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legant Problem Solv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are counted in mo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ypes of representative partic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- smallest unit of an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lecule- smallest unit of a molecular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 Unit- smallest unit of an ionic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800600"/>
            <a:ext cx="1765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y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avogadro.jpg (12825 bytes)"/>
          <p:cNvPicPr/>
          <p:nvPr/>
        </p:nvPicPr>
        <p:blipFill>
          <a:blip r:embed="rId1"/>
          <a:stretch/>
        </p:blipFill>
        <p:spPr>
          <a:xfrm>
            <a:off x="1495440" y="2254320"/>
            <a:ext cx="2305080" cy="3340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s are inconceivably sm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vogadro’s Nu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6.02 x 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 number of carbon-12 atoms in 12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derstanding Reac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+  3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2N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cule of nitrogen and 3 molecules of hydrogen produce 2 molecules of nitrogen trihydr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 of nitrogen molecules and 3 moles of hydrogen molecules produce 2 moles of nitrogen trihydride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1971720" cy="514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7400" y="281952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057400" y="1752480"/>
            <a:ext cx="838080" cy="52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2057400" y="228600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724280" y="1828800"/>
            <a:ext cx="58104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724280" y="2590920"/>
            <a:ext cx="581040" cy="533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1676520"/>
            <a:ext cx="68580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438280"/>
            <a:ext cx="76212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les → Particles (multiply by Avogadro’s number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atoms are there in 3 moles of aluminu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→ Moles (divide by A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moles are there in 5.71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mula units of calcium chlor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ss and the Mo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M (molar mas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ss of 1 mole of representative particles in a compound or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Between Moles an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ms → Moles (divide by molar ma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moles are there in 135.2 g of wat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es → Grams   (multiply by M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grams are there in 3.46 moles of calcium carbon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ll Roads Go Through Mo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lculations between mass and particles are possible by first calculating the number of mo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353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2:14:26Z</dcterms:created>
  <dc:creator>cmichene</dc:creator>
  <dc:description/>
  <dc:language>en-US</dc:language>
  <cp:lastModifiedBy>udsd</cp:lastModifiedBy>
  <dcterms:modified xsi:type="dcterms:W3CDTF">2009-01-08T12:39:05Z</dcterms:modified>
  <cp:revision>47</cp:revision>
  <dc:subject/>
  <dc:title>Moles and Stoichiometry</dc:title>
</cp:coreProperties>
</file>